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gif" ContentType="image/gi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578A-DBD5-4C45-8109-D182956E9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FDE4-08AD-4EC0-9498-D6F1E0D13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6DD3-097F-49EC-BB53-D9F5F7FA7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FAC3-8D54-45C1-93C3-D10B021BB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9286-3940-4E72-9005-6302C11F4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D822-118F-453A-B5B6-4627BB46A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FFD9-745E-4669-A19A-CF7CD87CA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2E0F-22EE-430F-B777-F60DED50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383D-B208-4292-9279-17FCF499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A28C-E714-46C6-BEF1-89553F224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A8B-4B3C-46A0-9A32-507CCE48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3CD-D4B6-4AB1-BFE6-86F79962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6DE4-2A6A-4177-AE7C-EDBE1527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757-03C0-4614-8AC5-0DD37F1E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F555-E1F1-4FEE-902D-4CAE4B63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F073-DA0A-40D3-B62E-0A8BC26E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DF3-BD15-404E-B95C-AFBE7C2A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999-CD97-40ED-B7A5-08ED086A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C248-4688-47AE-9FCE-B0DA8064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B77B-0E2E-4C13-9A2B-443411FFC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go-kids.grolier.com/splash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 rot="21139200">
            <a:off x="17280" y="884160"/>
            <a:ext cx="83055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extile"/>
              </a:rPr>
              <a:t>Daring Dictionary Skill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extile"/>
              <a:ea typeface="Textile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5029200" y="4495680"/>
          <a:ext cx="3352680" cy="140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495680"/>
                    <a:ext cx="335268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4"/>
          <p:cNvGraphicFramePr/>
          <p:nvPr/>
        </p:nvGraphicFramePr>
        <p:xfrm>
          <a:off x="3200400" y="1905120"/>
          <a:ext cx="2924280" cy="42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905120"/>
                    <a:ext cx="2924280" cy="42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0" y="594216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. Ricks, 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in Hickory 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nrico County Public Schools, Glen Allen, 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304920" y="2286000"/>
          <a:ext cx="2043000" cy="20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20430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3"/>
          <p:cNvSpPr/>
          <p:nvPr/>
        </p:nvSpPr>
        <p:spPr>
          <a:xfrm>
            <a:off x="2438280" y="1219320"/>
            <a:ext cx="5943600" cy="615168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ctiona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guidebooks; They tell how words are used by people. It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ference 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It gives information abou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ies have new words like Internet, login, and website and old-fashioned words like “steed” which means horse.  Some dictionaries have special purposes like a medical or a sports dictio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ionaries are arrang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phabetic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Object 2"/>
          <p:cNvGraphicFramePr/>
          <p:nvPr/>
        </p:nvGraphicFramePr>
        <p:xfrm>
          <a:off x="762120" y="1523880"/>
          <a:ext cx="14256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14256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3"/>
          <p:cNvGraphicFramePr/>
          <p:nvPr/>
        </p:nvGraphicFramePr>
        <p:xfrm>
          <a:off x="457200" y="4038480"/>
          <a:ext cx="1676520" cy="10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038480"/>
                    <a:ext cx="167652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5"/>
          <p:cNvSpPr/>
          <p:nvPr/>
        </p:nvSpPr>
        <p:spPr>
          <a:xfrm>
            <a:off x="2666880" y="1219320"/>
            <a:ext cx="6172200" cy="2288520"/>
          </a:xfrm>
          <a:prstGeom prst="rect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ference book containing words, usual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phabetical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ranged along with information about the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nunci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n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666880" y="3886200"/>
            <a:ext cx="6172200" cy="22885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ference book listing terms or names important to a particular subject along with a discussion of the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anin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A sample sentence is often inclu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1613160" y="27468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ictionary i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98108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Diction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62120" y="990720"/>
            <a:ext cx="73152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abrid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Not shorten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a large, extensive dictionary that is not based on a larger edition.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abrid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glish dictionaries attempt to conta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ords in the English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brid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to abbreviate; to lessen in length; to shorten by using fewer words but keeping the main contents. A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brid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ctionary contains words in commo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514600" y="3962520"/>
            <a:ext cx="5105520" cy="2113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nds of Dict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, geographical, law, sports, biographical, rhyming, medical,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7"/>
          <p:cNvGraphicFramePr/>
          <p:nvPr/>
        </p:nvGraphicFramePr>
        <p:xfrm>
          <a:off x="457200" y="4267080"/>
          <a:ext cx="172548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67080"/>
                    <a:ext cx="172548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Rectangle 8"/>
          <p:cNvSpPr/>
          <p:nvPr/>
        </p:nvSpPr>
        <p:spPr>
          <a:xfrm>
            <a:off x="2922840" y="59436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take a closer loo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9" descr="eyespy"/>
          <p:cNvPicPr/>
          <p:nvPr/>
        </p:nvPicPr>
        <p:blipFill>
          <a:blip r:embed="rId3"/>
          <a:stretch/>
        </p:blipFill>
        <p:spPr>
          <a:xfrm>
            <a:off x="7238880" y="5334120"/>
            <a:ext cx="1463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04920" y="304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up close look at a dictionar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R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562720" y="15238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ate           life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781680" y="17524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172200" y="609480"/>
            <a:ext cx="259092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id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 flipH="1">
            <a:off x="6144120" y="1091880"/>
            <a:ext cx="76356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7543800" y="1066680"/>
            <a:ext cx="307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981080" y="2590920"/>
            <a:ext cx="685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ye-brer-ee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un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lace where books, magazines, newspaper, tapes and videos are kept for reading or borrowing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533520" y="25909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-brar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2209680" y="4267080"/>
            <a:ext cx="632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a great reference section in ou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3" descr=""/>
          <p:cNvPicPr/>
          <p:nvPr/>
        </p:nvPicPr>
        <p:blipFill>
          <a:blip r:embed="rId1"/>
          <a:stretch/>
        </p:blipFill>
        <p:spPr>
          <a:xfrm>
            <a:off x="380880" y="3276720"/>
            <a:ext cx="1270080" cy="1587240"/>
          </a:xfrm>
          <a:prstGeom prst="rect">
            <a:avLst/>
          </a:prstGeom>
          <a:ln w="0">
            <a:noFill/>
          </a:ln>
        </p:spPr>
      </p:pic>
      <p:sp>
        <p:nvSpPr>
          <p:cNvPr id="81" name="Line 14"/>
          <p:cNvSpPr/>
          <p:nvPr/>
        </p:nvSpPr>
        <p:spPr>
          <a:xfrm>
            <a:off x="533520" y="1905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228600" y="1371600"/>
            <a:ext cx="12952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6"/>
          <p:cNvSpPr/>
          <p:nvPr/>
        </p:nvSpPr>
        <p:spPr>
          <a:xfrm>
            <a:off x="2438280" y="21337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1981080" y="1523880"/>
            <a:ext cx="228600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un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8"/>
          <p:cNvSpPr/>
          <p:nvPr/>
        </p:nvSpPr>
        <p:spPr>
          <a:xfrm flipH="1" flipV="1">
            <a:off x="2968200" y="4730040"/>
            <a:ext cx="1683000" cy="90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124080" y="5410080"/>
            <a:ext cx="39625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ple sentence/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0"/>
          <p:cNvSpPr/>
          <p:nvPr/>
        </p:nvSpPr>
        <p:spPr>
          <a:xfrm flipV="1">
            <a:off x="4076280" y="2376720"/>
            <a:ext cx="897480" cy="39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4800600" y="2286000"/>
            <a:ext cx="266688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 of spe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22"/>
          <p:cNvSpPr/>
          <p:nvPr/>
        </p:nvSpPr>
        <p:spPr>
          <a:xfrm flipH="1" flipV="1">
            <a:off x="2213640" y="3579120"/>
            <a:ext cx="14472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80880" y="6019920"/>
            <a:ext cx="830592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how the many definitions a word may h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24"/>
          <p:cNvSpPr/>
          <p:nvPr/>
        </p:nvSpPr>
        <p:spPr>
          <a:xfrm>
            <a:off x="3733920" y="46483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un, plural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braries,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un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brar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25"/>
          <p:cNvSpPr/>
          <p:nvPr/>
        </p:nvSpPr>
        <p:spPr>
          <a:xfrm>
            <a:off x="-65880" y="5334120"/>
            <a:ext cx="23752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llu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6"/>
          <p:cNvSpPr/>
          <p:nvPr/>
        </p:nvSpPr>
        <p:spPr>
          <a:xfrm flipV="1">
            <a:off x="380880" y="4800600"/>
            <a:ext cx="3812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990720" y="2438280"/>
            <a:ext cx="7696080" cy="1312920"/>
          </a:xfrm>
          <a:prstGeom prst="rect">
            <a:avLst/>
          </a:prstGeom>
          <a:solidFill>
            <a:srgbClr val="fbe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sk: Take the Dictionary Qui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276720" y="3276720"/>
            <a:ext cx="2484360" cy="2535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>
            <a:hlinkClick r:id="rId2"/>
          </p:cNvPr>
          <p:cNvSpPr/>
          <p:nvPr/>
        </p:nvSpPr>
        <p:spPr>
          <a:xfrm>
            <a:off x="567000" y="609588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’s Visit Grolier’s Online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2:43:56Z</dcterms:created>
  <dc:creator>Henrico County Public Schools</dc:creator>
  <dc:description/>
  <dc:language>en-US</dc:language>
  <cp:lastModifiedBy>Bakri</cp:lastModifiedBy>
  <cp:lastPrinted>2007-02-12T13:15:22Z</cp:lastPrinted>
  <dcterms:modified xsi:type="dcterms:W3CDTF">2013-01-15T04:58:50Z</dcterms:modified>
  <cp:revision>62</cp:revision>
  <dc:subject/>
  <dc:title>No Slide Title</dc:title>
</cp:coreProperties>
</file>